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A9DE-567F-494C-82C7-7BF1C849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3748-042E-4236-94D8-82F506CE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8A7F-E769-42CD-AB88-96431D2C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D87F-C95E-43C5-A234-A12B6BF1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24F1-D683-438D-A96C-CF4DE6A5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2294-8A4F-4DE8-AE72-17C37A12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75DB-3758-424D-BB09-BC62A3D0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65DA-2D70-41A1-9CA4-97638B88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32BA-3605-4862-848F-021D9167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44BE-ECC4-4B40-9AF6-BE1478EC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F238-30B4-4E6A-9631-F1EEA4A5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4478-603C-47E3-A93B-7F93D001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EE8D-12D1-447F-98E3-255ACEB8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885B-9788-434B-ACA9-C497508C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6DC0-3B5F-405A-A296-6B09DBA5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2D3E-DD5C-46AA-9D78-F0F6F95C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C424-E172-4B07-84F7-3E17E860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857-CB20-4D1F-A5E8-A7E4B2F4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6AD7-1369-49A2-8823-184A5231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1AB6-8867-47E3-8C24-AE799761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56CF-CA88-49A5-ADDE-8555E57D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D118-1AF5-4E27-AB05-0AB4E61A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BB78-272C-4554-9ADF-1A589F32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5255-68C9-4F5F-BF72-105B68B2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0266-FB96-4AAC-93C2-DC8D321928E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50CF-4F44-4DDF-8280-3ADCD491527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3213000"/>
            <a:ext cx="6400800" cy="2130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o-RO" sz="5400" spc="-1" strike="noStrike">
                <a:solidFill>
                  <a:srgbClr val="000000"/>
                </a:solidFill>
                <a:latin typeface="Monotype Corsiva"/>
              </a:rPr>
              <a:t>Efectele E – urilor asupra organismului uman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Monotype Corsiva"/>
              </a:rPr>
              <a:t>STANCA  EMILIA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ransition spd="slow" advTm="3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Monotype Corsiva"/>
              </a:rPr>
              <a:t>E220 – E228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sau sulfiţii sunt conservanţi care pot provoca boli intestinale şi alergii. Se găsesc în cartofi deshidrataţi, fructe confiate, prăjituri, bere, vin sau oţet din v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230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sau bifenil este un conservant toxic care se găseşte în citrice şi poate produce boli de pie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231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sau ortofenil fenol este un conservant toxic, posibil cancerigen care se găseşte în citri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">
    <p:dissolv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954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sau Zaharina este un posibil îndulcitor cancerigen întâlnit în guma de mestecat, produse dulci şi băuturi răcoritoa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320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sau butil hidroxi-anisol este un conservant posibil cancerigen din cartofi deshidrataţi, uleiuri vegetale, supe concentrate, sosuri şi gumă de mesteca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321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sau acidul benzoic este un antioxidant posibil cancerigen care determină creşterea colesterolului şi se găseşte în margarin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"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425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 sau glucomanan este agent de textură care are efect toxic respirator. Poate fi întâlnit în jeleur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621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sau glutamat monosodic are efect toxic asupra sistemului nervos întâlnit în condimente şi supe concentr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950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sau Acetsulfam K este un îndulcitor posibil cancerigen găsit în guma de mestecat, produse zaharoase şi băuturi răcoritoa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">
    <p:dissolv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E – urile sunt aditivi  care se folosesc la prepararea unor produselor alimentare  în scopul ameliorării calităţii acestora şi prelungirii perioadei în care acestea pot fi consum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"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Tipuri de E - ur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Coloranţii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schimbă sau dau culoare alimentelor şi sunt notaţi cu E100 până la E180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Edulcoranţii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folosiţi pentru îndulcirea alimentel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Acidifianţii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dau alimentelor gustul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Corectorii de aciditate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cresc sau micşorează aciditate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">
    <p:dissolv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Corectorii de gust şi miros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schimbă gustul şi mirosul alimentel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Emulgatorii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asigură un amestec omogen între apă şi grăsimi, sunt notaţi cu simboluri de la E400 la E5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Conservanţii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împiedică alterarea alimentelor, sunt notaţi cu simboluri de la E200 la E29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"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34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Antioxidanţii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limitează oxidarea alimentelor care vin în contact cu aerul, sunt notaţi cu simboluri de la E300 la E33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Comic Sans MS"/>
              </a:rPr>
              <a:t>Propulsorii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servesc la expulzarea alimentelor din ambalaj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E – urile bune pentru organism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E140 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– clorofila este un colorant natural folosit pentru colorarea pastelor de dinţi, a cosmeticelor sau în cofetări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E300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vitamina B2 sau riboflavin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E306 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– vitamina E sau tocoferolul este un antioxidant natural care ajută la regenerarea celulel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"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E322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lecitina este un antioxidant natura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E407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caragenananul este un emulsifiant natur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E421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manitolul întâlnit în produsele de cofetăr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omic Sans MS"/>
              </a:rPr>
              <a:t>E440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– Vitamina C naturală sau acidul ascorb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">
    <p:dissolv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omic Sans MS"/>
              </a:rPr>
              <a:t>E – urile rele pentru orga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110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 sau Sunset yellow este un colorant de culoare galbenă, cancerigen folosit la fabricarea  de dulciuri, prăjituri, sucuri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123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sau Amarant este un colorant de culoare roşie, cancerigen întâlnit în  duciuri, jeleuri şi brânză topită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124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sau Ponceau 4R este un colorant de culoare roşie, toxic folosit la fabricarea mezeluril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127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sau Eritrozina este un colorant roşu care provoacă cancer al tiroidei la animale. Se găseşte în alcool, îngheţată, prăjituri, bomboane şi sucuri răcoritoar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128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sau Roşu 2G este un colorant mutagen şi toxic întâlnit la hamburgheri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Monotype Corsiva"/>
              </a:rPr>
              <a:t>E211</a:t>
            </a:r>
            <a:r>
              <a:rPr b="0" lang="ro-RO" sz="3200" spc="-1" strike="noStrike">
                <a:solidFill>
                  <a:srgbClr val="000000"/>
                </a:solidFill>
                <a:latin typeface="Comic Sans MS"/>
              </a:rPr>
              <a:t> sau acidul benzoic poate fi posibil cancerigen întâlnit în unele băuturi răcoritoa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 advTm="3000">
    <p:dissolv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3:25:30Z</dcterms:created>
  <dc:creator>Ioana Stanciu</dc:creator>
  <dc:description/>
  <dc:language>en-US</dc:language>
  <cp:lastModifiedBy>User</cp:lastModifiedBy>
  <dcterms:modified xsi:type="dcterms:W3CDTF">2012-04-09T08:04:06Z</dcterms:modified>
  <cp:revision>6</cp:revision>
  <dc:subject/>
  <dc:title>Efectele E – urilor asupra organismului uman</dc:title>
</cp:coreProperties>
</file>